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eestyle Scrip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CA5-C15F-4180-95DB-8C2296302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274-DA7F-48D9-A608-A70A73A36E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651-24D7-46C8-BAA3-7421A24E41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C5E8-1AD8-4E1D-9213-AB92443AE5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6BF1-440A-41B4-90F1-9428F8D5EE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09E9-D186-4720-9BA5-C4187E19BD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oatrial node – valve of right at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rial Ventricular – valves prevent backflow, also prevent valves from inver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BE8B-82C2-41A1-BC1A-2033BEE4F8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584-338E-4AEE-A77A-E269496EAA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6140-B27A-4C3A-A03E-4301B11710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328-E5FA-4931-8587-2563101229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F4F2-888B-4D90-B7E7-319FF13D58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EE4F-7336-4032-B0A0-BB596935F2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277-4FCC-4267-8D9A-B9C4CAEC0A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3492-B944-482D-98EC-ACB8BA1169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D1C-15A4-4CE7-8EF4-3959232078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C7A-FA4B-466E-843C-B14DFDC137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93A-0FCF-4E7C-A63A-3CC55F03C0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650-6B11-4017-98FF-DFBA9A17DD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773B-1B0D-4E33-BFFA-18864F1E65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D2C-2AEA-45B5-A274-4E7B47E0D8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131-B588-4D33-995B-6C2B299C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5FF-293E-451A-AE94-1206760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2B3-5E8D-4FDE-8E67-4A3EBE5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35B-DA8C-4321-8B47-8D43E60E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6BE-7E33-4E6A-992F-0A8D3F50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788-C656-4881-BD61-1F62E907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D97-3851-4DB7-AFEF-7895AD5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F27-B7D7-4965-9DB8-546F2E93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00E-0416-4FC0-A6B0-59842AB8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F07-8FC3-4EC8-B374-6D8007B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8EE-788A-4DE7-9856-E7E8EF8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130-8E3B-4EBE-8EA7-B5106E9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eestyle Scrip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A214-72F4-4AD0-B94A-5B573AD3E8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about.com/heartdisease/How-the-Valves-Work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Freestyle Script"/>
              </a:rPr>
              <a:t>The Circulatory System</a:t>
            </a:r>
            <a:endParaRPr b="0" lang="en-US" sz="13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54097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Mr. O’Connor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Thomas Jefferson High School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Cedar Rapids Community School District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Winter Term Biology II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reestyle Script"/>
              </a:rPr>
              <a:t>Veins</a:t>
            </a:r>
            <a:endParaRPr b="0" lang="en-US" sz="115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120"/>
            <a:ext cx="32004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ame 3 layers as arteries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nner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re expandable.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nous Valv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4" name="Picture 4" descr="artery-vein"/>
          <p:cNvPicPr/>
          <p:nvPr/>
        </p:nvPicPr>
        <p:blipFill>
          <a:blip r:embed="rId2"/>
          <a:srcRect l="11110" t="0" r="4165" b="14667"/>
          <a:stretch/>
        </p:blipFill>
        <p:spPr>
          <a:xfrm>
            <a:off x="3733920" y="2057400"/>
            <a:ext cx="49528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Varicose Vein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reak down of the venous valv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 begins to poo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retches the vein walls and pushes them to the surface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7" name="Picture 5" descr="Varicose-Veins-legsas"/>
          <p:cNvPicPr/>
          <p:nvPr/>
        </p:nvPicPr>
        <p:blipFill>
          <a:blip r:embed="rId2"/>
          <a:stretch/>
        </p:blipFill>
        <p:spPr>
          <a:xfrm>
            <a:off x="4114800" y="1600200"/>
            <a:ext cx="47624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Freestyle Script"/>
              </a:rPr>
              <a:t>The Heart</a:t>
            </a:r>
            <a:endParaRPr b="0" lang="en-US" sz="13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9" name="Picture 15" descr="3"/>
          <p:cNvPicPr/>
          <p:nvPr/>
        </p:nvPicPr>
        <p:blipFill>
          <a:blip r:embed="rId2"/>
          <a:srcRect l="0" t="12480" r="0" b="2463"/>
          <a:stretch/>
        </p:blipFill>
        <p:spPr>
          <a:xfrm>
            <a:off x="2712960" y="1303200"/>
            <a:ext cx="391644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knife through heart"/>
          <p:cNvPicPr/>
          <p:nvPr/>
        </p:nvPicPr>
        <p:blipFill>
          <a:blip r:embed="rId3"/>
          <a:srcRect l="50292" t="0" r="0" b="0"/>
          <a:stretch/>
        </p:blipFill>
        <p:spPr>
          <a:xfrm>
            <a:off x="4724280" y="1855800"/>
            <a:ext cx="2362320" cy="4506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knife through heart"/>
          <p:cNvPicPr/>
          <p:nvPr/>
        </p:nvPicPr>
        <p:blipFill>
          <a:blip r:embed="rId4"/>
          <a:srcRect l="0" t="0" r="49719" b="0"/>
          <a:stretch/>
        </p:blipFill>
        <p:spPr>
          <a:xfrm>
            <a:off x="2362320" y="1906560"/>
            <a:ext cx="23619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Heart Fact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ighs ~ 11 ounces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heart beats 70-80 beats per minute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heart muscle contractions are what push the blood through the chambers and the vessel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involuntary)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rve connections regulate your heart rate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triggered by your brain and hormones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our maximum heart rate = 220 beats per minute – your age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Key Heart Part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rium/atri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ntricle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ptum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alv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noatrial Nod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pacemaker)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rial Ventricular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86" name="Picture 4" descr="Picture1"/>
          <p:cNvPicPr/>
          <p:nvPr/>
        </p:nvPicPr>
        <p:blipFill>
          <a:blip r:embed="rId2"/>
          <a:stretch/>
        </p:blipFill>
        <p:spPr>
          <a:xfrm>
            <a:off x="4343400" y="1981080"/>
            <a:ext cx="45194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The ABC’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Atria and Ventricles – The 4 Chambers of the Heart</a:t>
            </a:r>
            <a:endParaRPr b="0" lang="en-US" sz="27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ft Atrium delivers blood to the Left Ventricle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ft Ventricle delivers blood to the body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as thicker muscle surrounding it.</a:t>
            </a:r>
            <a:endParaRPr b="0" lang="en-US" sz="20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ght Atrium delivers blood to the Right Ventricle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ght Ventricle delivers blood to the lungs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Septum</a:t>
            </a:r>
            <a:endParaRPr b="0" lang="en-US" sz="27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parates the left and right sides of the heart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1"/>
          <p:cNvPicPr/>
          <p:nvPr/>
        </p:nvPicPr>
        <p:blipFill>
          <a:blip r:embed="rId2"/>
          <a:stretch/>
        </p:blipFill>
        <p:spPr>
          <a:xfrm>
            <a:off x="1295280" y="685800"/>
            <a:ext cx="645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reestyle Script"/>
              </a:rPr>
              <a:t>Valves</a:t>
            </a:r>
            <a:endParaRPr b="0" lang="en-US" sz="115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alves separate the atrium from its ventricle- as valves close you hear the thump sound. Valves prevent the blood from flowing backward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tral (Bicuspid) valve for left atrium and ventricle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icuspid connects the right atrium to the right ventricle 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90720" y="58672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ideo.about.com/heartdisease/How-the-Valves-Work.htm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Arteries and Vein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rteries</a:t>
            </a:r>
            <a:endParaRPr b="0" lang="en-US" sz="30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orta-main artery, carries blood away from the heart (largest)</a:t>
            </a:r>
            <a:endParaRPr b="0" lang="en-US" sz="26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ulmo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tery- takes blood to lungs for gas exchange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Veins</a:t>
            </a:r>
            <a:endParaRPr b="0" lang="en-US" sz="27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na cava ( superior and inferior)- largest veins that take blood to the heart</a:t>
            </a:r>
            <a:endParaRPr b="0" lang="en-US" sz="2600" spc="-1" strike="noStrike">
              <a:solidFill>
                <a:srgbClr val="ffffff"/>
              </a:solidFill>
              <a:latin typeface="Freestyle Script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uperior= top of heart, inferior= bottom of heart</a:t>
            </a:r>
            <a:endParaRPr b="0" lang="en-US" sz="20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ulmonary vein- take blood from lungs back to heart</a:t>
            </a:r>
            <a:endParaRPr b="0" lang="en-US" sz="26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Other Important Fact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Sinoatrial and Atrial Ventricular nodes- the natural pace maker. They make all 4 chambers of the heart beat in syncronation.</a:t>
            </a:r>
            <a:endParaRPr b="0" lang="en-US" sz="2500" spc="-1" strike="noStrike">
              <a:solidFill>
                <a:srgbClr val="ffffff"/>
              </a:solidFill>
              <a:latin typeface="Freestyle Script"/>
            </a:endParaRPr>
          </a:p>
          <a:p>
            <a:pPr marL="335880" indent="-335880">
              <a:lnSpc>
                <a:spcPct val="150000"/>
              </a:lnSpc>
              <a:spcBef>
                <a:spcPts val="624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The blood supply to your heart is provided by blood vessels that wrap around the outside of your heart </a:t>
            </a:r>
            <a:endParaRPr b="0" lang="en-US" sz="2500" spc="-1" strike="noStrike">
              <a:solidFill>
                <a:srgbClr val="ffffff"/>
              </a:solidFill>
              <a:latin typeface="Freestyle Script"/>
            </a:endParaRPr>
          </a:p>
          <a:p>
            <a:pPr marL="335880" indent="-3358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Without nervous control, your bpms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Comic Sans MS"/>
              </a:rPr>
              <a:t>would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 be ≈100.</a:t>
            </a:r>
            <a:endParaRPr b="0" lang="en-US" sz="2500" spc="-1" strike="noStrike">
              <a:solidFill>
                <a:srgbClr val="ffffff"/>
              </a:solidFill>
              <a:latin typeface="Freestyle Script"/>
            </a:endParaRPr>
          </a:p>
          <a:p>
            <a:pPr lvl="1" marL="727920" indent="-280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sting heart rate:  72-80 bpms (women) and 64-72 bpms (men). </a:t>
            </a:r>
            <a:endParaRPr b="0" lang="en-US" sz="22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eestyle Script"/>
              </a:rPr>
              <a:t>What are the 3 parts of the system?</a:t>
            </a:r>
            <a:endParaRPr b="0" lang="en-US" sz="6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 Vessel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art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52" name="Picture 5" descr="chf_circulatory_system"/>
          <p:cNvPicPr/>
          <p:nvPr/>
        </p:nvPicPr>
        <p:blipFill>
          <a:blip r:embed="rId2"/>
          <a:stretch/>
        </p:blipFill>
        <p:spPr>
          <a:xfrm>
            <a:off x="3962520" y="1523880"/>
            <a:ext cx="4809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"/>
          <p:cNvPicPr/>
          <p:nvPr/>
        </p:nvPicPr>
        <p:blipFill>
          <a:blip r:embed="rId2"/>
          <a:srcRect l="10914" t="9075" r="18180" b="0"/>
          <a:stretch/>
        </p:blipFill>
        <p:spPr>
          <a:xfrm>
            <a:off x="5410080" y="609480"/>
            <a:ext cx="29718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Blood Vessel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network of tub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 to the heart to cells and back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art of a CLOSED system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PEN system:  Giant Crab, beetles, spiders, etc.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56" name="Picture 2" descr="Spotted anemone crab"/>
          <p:cNvPicPr/>
          <p:nvPr/>
        </p:nvPicPr>
        <p:blipFill>
          <a:blip r:embed="rId3"/>
          <a:srcRect l="9231" t="26228" r="13846" b="9226"/>
          <a:stretch/>
        </p:blipFill>
        <p:spPr>
          <a:xfrm>
            <a:off x="5105520" y="43434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What are the 3 types of vessels?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2743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rteries</a:t>
            </a:r>
            <a:endParaRPr b="0" lang="en-US" sz="40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apillaries</a:t>
            </a:r>
            <a:endParaRPr b="0" lang="en-US" sz="40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eins</a:t>
            </a:r>
            <a:endParaRPr b="0" lang="en-US" sz="40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rtery-vein"/>
          <p:cNvPicPr/>
          <p:nvPr/>
        </p:nvPicPr>
        <p:blipFill>
          <a:blip r:embed="rId2"/>
          <a:srcRect l="11110" t="0" r="4165" b="14667"/>
          <a:stretch/>
        </p:blipFill>
        <p:spPr>
          <a:xfrm>
            <a:off x="3809880" y="1905120"/>
            <a:ext cx="5148360" cy="388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Arterie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ad blood away from the heart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rgest of the blood vessels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ry muscular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Layers </a:t>
            </a: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of</a:t>
            </a: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 Arterie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unica extern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uter layer (fibrous tissue)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unica medi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ddle layer (smooth muscle and elastic)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unica intim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ner layer (endothelial)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64" name="Picture 4" descr="artery-vein"/>
          <p:cNvPicPr/>
          <p:nvPr/>
        </p:nvPicPr>
        <p:blipFill>
          <a:blip r:embed="rId2"/>
          <a:srcRect l="11110" t="0" r="37740" b="14667"/>
          <a:stretch/>
        </p:blipFill>
        <p:spPr>
          <a:xfrm>
            <a:off x="5181480" y="1600200"/>
            <a:ext cx="37339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Why would arteries need to be the thickest of the vessels?</a:t>
            </a:r>
            <a:endParaRPr b="0" lang="en-US" sz="7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66" name="Picture 5" descr="circulatory_system"/>
          <p:cNvPicPr/>
          <p:nvPr/>
        </p:nvPicPr>
        <p:blipFill>
          <a:blip r:embed="rId2"/>
          <a:srcRect l="0" t="0" r="0" b="40403"/>
          <a:stretch/>
        </p:blipFill>
        <p:spPr>
          <a:xfrm>
            <a:off x="2209680" y="2244600"/>
            <a:ext cx="48006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Capillarie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tremely narrow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e cell thick ONLY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e layer of endothelial cells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reates capillary beds, or network (S.A.)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More About Capillarie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important part of system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change occurs here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utrients &amp; Gases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nection between arteries and vein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rolled by muscular sphincter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ricted = Closed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laxed = Open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1" name="Picture 5" descr="image004"/>
          <p:cNvPicPr/>
          <p:nvPr/>
        </p:nvPicPr>
        <p:blipFill>
          <a:blip r:embed="rId2"/>
          <a:srcRect l="16669" t="5128" r="21793" b="7696"/>
          <a:stretch/>
        </p:blipFill>
        <p:spPr>
          <a:xfrm>
            <a:off x="5257800" y="190512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1:49:03Z</dcterms:created>
  <dc:creator>Amy Lynn Sanford</dc:creator>
  <dc:description/>
  <dc:language>en-US</dc:language>
  <cp:lastModifiedBy>joconnor</cp:lastModifiedBy>
  <dcterms:modified xsi:type="dcterms:W3CDTF">2010-01-12T13:43:01Z</dcterms:modified>
  <cp:revision>22</cp:revision>
  <dc:subject/>
  <dc:title>The Circulatory System</dc:title>
</cp:coreProperties>
</file>